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"/>
          <p:cNvGraphicFramePr/>
          <p:nvPr/>
        </p:nvGraphicFramePr>
        <p:xfrm>
          <a:off x="0" y="306360"/>
          <a:ext cx="6842160" cy="9210600"/>
        </p:xfrm>
        <a:graphic>
          <a:graphicData uri="http://schemas.openxmlformats.org/drawingml/2006/table">
            <a:tbl>
              <a:tblPr/>
              <a:tblGrid>
                <a:gridCol w="431640"/>
                <a:gridCol w="385920"/>
                <a:gridCol w="735120"/>
                <a:gridCol w="815760"/>
                <a:gridCol w="182520"/>
                <a:gridCol w="538200"/>
                <a:gridCol w="182520"/>
                <a:gridCol w="536760"/>
                <a:gridCol w="576360"/>
                <a:gridCol w="504720"/>
                <a:gridCol w="182520"/>
                <a:gridCol w="588960"/>
                <a:gridCol w="345960"/>
                <a:gridCol w="182880"/>
                <a:gridCol w="652320"/>
              </a:tblGrid>
              <a:tr h="264240">
                <a:tc gridSpan="4"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담 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파트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차  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GL3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 번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84255-L84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부서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UNNEL PAD CTR AW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요구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4.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4.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사  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4880">
                <a:tc gridSpan="1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결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 가능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기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D+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금액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,SKIN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면 형상 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라인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성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/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/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진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가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①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성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내용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SKIN,PU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면 형상 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라인변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N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공정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가능여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세부 금형 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비 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7" name="그림 9" descr=""/>
          <p:cNvPicPr/>
          <p:nvPr/>
        </p:nvPicPr>
        <p:blipFill>
          <a:blip r:embed="rId1"/>
          <a:stretch/>
        </p:blipFill>
        <p:spPr>
          <a:xfrm>
            <a:off x="5497560" y="5745240"/>
            <a:ext cx="1254240" cy="1274760"/>
          </a:xfrm>
          <a:prstGeom prst="rect">
            <a:avLst/>
          </a:prstGeom>
          <a:ln w="0">
            <a:noFill/>
          </a:ln>
        </p:spPr>
      </p:pic>
      <p:pic>
        <p:nvPicPr>
          <p:cNvPr id="38" name="그림 6" descr=""/>
          <p:cNvPicPr/>
          <p:nvPr/>
        </p:nvPicPr>
        <p:blipFill>
          <a:blip r:embed="rId2"/>
          <a:stretch/>
        </p:blipFill>
        <p:spPr>
          <a:xfrm>
            <a:off x="260280" y="2792520"/>
            <a:ext cx="4559400" cy="409104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229"/>
          <p:cNvSpPr/>
          <p:nvPr/>
        </p:nvSpPr>
        <p:spPr>
          <a:xfrm>
            <a:off x="44280" y="9691200"/>
            <a:ext cx="1203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UF-SS-011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Rectangle 254"/>
          <p:cNvSpPr/>
          <p:nvPr/>
        </p:nvSpPr>
        <p:spPr>
          <a:xfrm>
            <a:off x="5013360" y="114840"/>
            <a:ext cx="1809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HR-ME-SS-259 Rev.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Rectangle 267"/>
          <p:cNvSpPr/>
          <p:nvPr/>
        </p:nvSpPr>
        <p:spPr>
          <a:xfrm>
            <a:off x="404640" y="527400"/>
            <a:ext cx="36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금형 적용검토 의뢰서 </a:t>
            </a:r>
            <a:r>
              <a:rPr b="1" lang="en-US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보고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Oval 268"/>
          <p:cNvSpPr/>
          <p:nvPr/>
        </p:nvSpPr>
        <p:spPr>
          <a:xfrm>
            <a:off x="2155680" y="627120"/>
            <a:ext cx="79056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AutoShape 214"/>
          <p:cNvSpPr/>
          <p:nvPr/>
        </p:nvSpPr>
        <p:spPr>
          <a:xfrm flipH="1">
            <a:off x="5050800" y="6783480"/>
            <a:ext cx="773280" cy="209520"/>
          </a:xfrm>
          <a:prstGeom prst="borderCallout2">
            <a:avLst>
              <a:gd name="adj1" fmla="val 18750"/>
              <a:gd name="adj2" fmla="val -8333"/>
              <a:gd name="adj3" fmla="val 50212"/>
              <a:gd name="adj4" fmla="val 115782"/>
              <a:gd name="adj5" fmla="val -271694"/>
              <a:gd name="adj6" fmla="val 171240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트림라인변경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(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축소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AutoShape 214"/>
          <p:cNvSpPr/>
          <p:nvPr/>
        </p:nvSpPr>
        <p:spPr>
          <a:xfrm flipH="1">
            <a:off x="4707360" y="3556080"/>
            <a:ext cx="636120" cy="209520"/>
          </a:xfrm>
          <a:prstGeom prst="borderCallout2">
            <a:avLst>
              <a:gd name="adj1" fmla="val 18750"/>
              <a:gd name="adj2" fmla="val -8333"/>
              <a:gd name="adj3" fmla="val 54722"/>
              <a:gd name="adj4" fmla="val 127532"/>
              <a:gd name="adj5" fmla="val 234129"/>
              <a:gd name="adj6" fmla="val 189250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형상변경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(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압착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214"/>
          <p:cNvSpPr/>
          <p:nvPr/>
        </p:nvSpPr>
        <p:spPr>
          <a:xfrm flipH="1">
            <a:off x="1557720" y="4964040"/>
            <a:ext cx="636120" cy="209520"/>
          </a:xfrm>
          <a:prstGeom prst="borderCallout2">
            <a:avLst>
              <a:gd name="adj1" fmla="val 18750"/>
              <a:gd name="adj2" fmla="val -8333"/>
              <a:gd name="adj3" fmla="val 54722"/>
              <a:gd name="adj4" fmla="val -14703"/>
              <a:gd name="adj5" fmla="val -82157"/>
              <a:gd name="adj6" fmla="val -69851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형상변경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(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압착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AutoShape 214"/>
          <p:cNvSpPr/>
          <p:nvPr/>
        </p:nvSpPr>
        <p:spPr>
          <a:xfrm flipH="1">
            <a:off x="4685040" y="4978440"/>
            <a:ext cx="636120" cy="209520"/>
          </a:xfrm>
          <a:prstGeom prst="borderCallout2">
            <a:avLst>
              <a:gd name="adj1" fmla="val 18750"/>
              <a:gd name="adj2" fmla="val -8333"/>
              <a:gd name="adj3" fmla="val 54722"/>
              <a:gd name="adj4" fmla="val 127532"/>
              <a:gd name="adj5" fmla="val -84217"/>
              <a:gd name="adj6" fmla="val 182972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형상변경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(</a:t>
            </a: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압착</a:t>
            </a:r>
            <a:r>
              <a:rPr b="0" lang="en-US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2:47:29Z</dcterms:created>
  <dc:creator>채종서</dc:creator>
  <dc:description/>
  <dc:language>en-US</dc:language>
  <cp:lastModifiedBy>서 선석</cp:lastModifiedBy>
  <dcterms:modified xsi:type="dcterms:W3CDTF">2024-04-15T04:46:45Z</dcterms:modified>
  <cp:revision>1595</cp:revision>
  <dc:subject/>
  <dc:title>슬라이드 1</dc:title>
</cp:coreProperties>
</file>