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0" y="306360"/>
          <a:ext cx="6842160" cy="9240840"/>
        </p:xfrm>
        <a:graphic>
          <a:graphicData uri="http://schemas.openxmlformats.org/drawingml/2006/table">
            <a:tbl>
              <a:tblPr/>
              <a:tblGrid>
                <a:gridCol w="431640"/>
                <a:gridCol w="385920"/>
                <a:gridCol w="735120"/>
                <a:gridCol w="815760"/>
                <a:gridCol w="182520"/>
                <a:gridCol w="538200"/>
                <a:gridCol w="182520"/>
                <a:gridCol w="536760"/>
                <a:gridCol w="576360"/>
                <a:gridCol w="504720"/>
                <a:gridCol w="182520"/>
                <a:gridCol w="588960"/>
                <a:gridCol w="345960"/>
                <a:gridCol w="182880"/>
                <a:gridCol w="652320"/>
              </a:tblGrid>
              <a:tr h="264240">
                <a:tc gridSpan="4"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담 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파트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차  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GL3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 번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84256-L84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부서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UNNEL PAD RR AW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요구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사  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0">
                <a:tc gridSpan="1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결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 가능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기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D+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금액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가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①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내용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N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공정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가능여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세부 금형 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비 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" name="Rectangle 229"/>
          <p:cNvSpPr/>
          <p:nvPr/>
        </p:nvSpPr>
        <p:spPr>
          <a:xfrm>
            <a:off x="44280" y="9691200"/>
            <a:ext cx="1203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UF-SS-011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Rectangle 254"/>
          <p:cNvSpPr/>
          <p:nvPr/>
        </p:nvSpPr>
        <p:spPr>
          <a:xfrm>
            <a:off x="5013360" y="114840"/>
            <a:ext cx="1809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HR-ME-SS-259 Rev.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Rectangle 267"/>
          <p:cNvSpPr/>
          <p:nvPr/>
        </p:nvSpPr>
        <p:spPr>
          <a:xfrm>
            <a:off x="404640" y="527400"/>
            <a:ext cx="36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금형 적용검토 의뢰서 </a:t>
            </a:r>
            <a:r>
              <a:rPr b="1" lang="en-US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보고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Oval 268"/>
          <p:cNvSpPr/>
          <p:nvPr/>
        </p:nvSpPr>
        <p:spPr>
          <a:xfrm>
            <a:off x="2155680" y="627120"/>
            <a:ext cx="79056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AutoShape 214"/>
          <p:cNvSpPr/>
          <p:nvPr/>
        </p:nvSpPr>
        <p:spPr>
          <a:xfrm flipH="1">
            <a:off x="4755960" y="5889600"/>
            <a:ext cx="84384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129842"/>
              <a:gd name="adj6" fmla="val 15709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5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개소 이동가능 포지션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그림 2" descr=""/>
          <p:cNvPicPr/>
          <p:nvPr/>
        </p:nvPicPr>
        <p:blipFill>
          <a:blip r:embed="rId1"/>
          <a:stretch/>
        </p:blipFill>
        <p:spPr>
          <a:xfrm>
            <a:off x="260280" y="2792520"/>
            <a:ext cx="60753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306360"/>
          <a:ext cx="6842160" cy="9240840"/>
        </p:xfrm>
        <a:graphic>
          <a:graphicData uri="http://schemas.openxmlformats.org/drawingml/2006/table">
            <a:tbl>
              <a:tblPr/>
              <a:tblGrid>
                <a:gridCol w="431640"/>
                <a:gridCol w="385920"/>
                <a:gridCol w="735120"/>
                <a:gridCol w="815760"/>
                <a:gridCol w="182520"/>
                <a:gridCol w="538200"/>
                <a:gridCol w="182520"/>
                <a:gridCol w="536760"/>
                <a:gridCol w="576360"/>
                <a:gridCol w="504720"/>
                <a:gridCol w="182520"/>
                <a:gridCol w="588960"/>
                <a:gridCol w="345960"/>
                <a:gridCol w="182880"/>
                <a:gridCol w="652320"/>
              </a:tblGrid>
              <a:tr h="244440">
                <a:tc gridSpan="4"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담 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파트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차  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GL3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 번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84256-L84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부서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UNNEL PAD RR AW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요구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사  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0">
                <a:tc gridSpan="1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결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 가능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기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D+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금액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가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①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내용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N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공정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가능여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세부 금형 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비 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4" name="그림 7" descr=""/>
          <p:cNvPicPr/>
          <p:nvPr/>
        </p:nvPicPr>
        <p:blipFill>
          <a:blip r:embed="rId1"/>
          <a:stretch/>
        </p:blipFill>
        <p:spPr>
          <a:xfrm>
            <a:off x="260280" y="2851200"/>
            <a:ext cx="6369120" cy="3325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29"/>
          <p:cNvSpPr/>
          <p:nvPr/>
        </p:nvSpPr>
        <p:spPr>
          <a:xfrm>
            <a:off x="44280" y="9691200"/>
            <a:ext cx="1203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UF-SS-011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254"/>
          <p:cNvSpPr/>
          <p:nvPr/>
        </p:nvSpPr>
        <p:spPr>
          <a:xfrm>
            <a:off x="5013360" y="114840"/>
            <a:ext cx="1809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HR-ME-SS-259 Rev.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267"/>
          <p:cNvSpPr/>
          <p:nvPr/>
        </p:nvSpPr>
        <p:spPr>
          <a:xfrm>
            <a:off x="404640" y="527400"/>
            <a:ext cx="36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금형 적용검토 의뢰서 </a:t>
            </a:r>
            <a:r>
              <a:rPr b="1" lang="en-US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보고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Oval 268"/>
          <p:cNvSpPr/>
          <p:nvPr/>
        </p:nvSpPr>
        <p:spPr>
          <a:xfrm>
            <a:off x="2155680" y="627120"/>
            <a:ext cx="79056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214"/>
          <p:cNvSpPr/>
          <p:nvPr/>
        </p:nvSpPr>
        <p:spPr>
          <a:xfrm flipH="1">
            <a:off x="5820840" y="4707000"/>
            <a:ext cx="73512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-94337"/>
              <a:gd name="adj6" fmla="val 150708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이형홀 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확공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214"/>
          <p:cNvSpPr/>
          <p:nvPr/>
        </p:nvSpPr>
        <p:spPr>
          <a:xfrm flipH="1">
            <a:off x="740520" y="4408560"/>
            <a:ext cx="803880" cy="209520"/>
          </a:xfrm>
          <a:prstGeom prst="borderCallout2">
            <a:avLst>
              <a:gd name="adj1" fmla="val 18750"/>
              <a:gd name="adj2" fmla="val -8333"/>
              <a:gd name="adj3" fmla="val 54722"/>
              <a:gd name="adj4" fmla="val -14703"/>
              <a:gd name="adj5" fmla="val -150083"/>
              <a:gd name="adj6" fmla="val -58814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트림라인 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축소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2:47:29Z</dcterms:created>
  <dc:creator>채종서</dc:creator>
  <dc:description/>
  <dc:language>en-US</dc:language>
  <cp:lastModifiedBy>서 선석</cp:lastModifiedBy>
  <dcterms:modified xsi:type="dcterms:W3CDTF">2024-04-16T01:14:59Z</dcterms:modified>
  <cp:revision>1594</cp:revision>
  <dc:subject/>
  <dc:title>슬라이드 1</dc:title>
</cp:coreProperties>
</file>