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735763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2964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16560" y="231804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4272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242964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4516560" y="5319000"/>
            <a:ext cx="198720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617184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342720" y="395280"/>
            <a:ext cx="6171840" cy="7667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574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505320" y="531900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42720" y="395280"/>
            <a:ext cx="6171840" cy="165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27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05320" y="2318040"/>
            <a:ext cx="301176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42720" y="5319000"/>
            <a:ext cx="6171840" cy="274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" name="그림 2" descr=""/>
          <p:cNvPicPr/>
          <p:nvPr/>
        </p:nvPicPr>
        <p:blipFill>
          <a:blip r:embed="rId1"/>
          <a:stretch/>
        </p:blipFill>
        <p:spPr>
          <a:xfrm>
            <a:off x="239760" y="2900520"/>
            <a:ext cx="6235560" cy="4052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" name=""/>
          <p:cNvGraphicFramePr/>
          <p:nvPr/>
        </p:nvGraphicFramePr>
        <p:xfrm>
          <a:off x="0" y="306360"/>
          <a:ext cx="6842160" cy="9240840"/>
        </p:xfrm>
        <a:graphic>
          <a:graphicData uri="http://schemas.openxmlformats.org/drawingml/2006/table">
            <a:tbl>
              <a:tblPr/>
              <a:tblGrid>
                <a:gridCol w="431640"/>
                <a:gridCol w="385920"/>
                <a:gridCol w="735120"/>
                <a:gridCol w="815760"/>
                <a:gridCol w="182520"/>
                <a:gridCol w="538200"/>
                <a:gridCol w="182520"/>
                <a:gridCol w="536760"/>
                <a:gridCol w="576360"/>
                <a:gridCol w="504720"/>
                <a:gridCol w="182520"/>
                <a:gridCol w="588960"/>
                <a:gridCol w="345960"/>
                <a:gridCol w="182880"/>
                <a:gridCol w="652320"/>
              </a:tblGrid>
              <a:tr h="264240">
                <a:tc gridSpan="4"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담 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파트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46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96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차  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GL3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 번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84256-L84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부서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2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UNNEL PAD RR AW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952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요구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3.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3.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18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사  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4400">
                <a:tc gridSpan="1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224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결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 가능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기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D+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금액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73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금형 슬릿트추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수정 불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①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성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내용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980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N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공정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가능여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세부 금형 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비 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38" name="Rectangle 229"/>
          <p:cNvSpPr/>
          <p:nvPr/>
        </p:nvSpPr>
        <p:spPr>
          <a:xfrm>
            <a:off x="44280" y="9691200"/>
            <a:ext cx="1203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UF-SS-011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9" name="Rectangle 254"/>
          <p:cNvSpPr/>
          <p:nvPr/>
        </p:nvSpPr>
        <p:spPr>
          <a:xfrm>
            <a:off x="5013360" y="114840"/>
            <a:ext cx="1809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HR-ME-SS-259 Rev.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0" name="Rectangle 267"/>
          <p:cNvSpPr/>
          <p:nvPr/>
        </p:nvSpPr>
        <p:spPr>
          <a:xfrm>
            <a:off x="404640" y="527400"/>
            <a:ext cx="36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금형 적용검토 의뢰서 </a:t>
            </a:r>
            <a:r>
              <a:rPr b="1" lang="en-US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보고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1" name="Oval 268"/>
          <p:cNvSpPr/>
          <p:nvPr/>
        </p:nvSpPr>
        <p:spPr>
          <a:xfrm>
            <a:off x="2155680" y="627120"/>
            <a:ext cx="79056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2" name="직사각형 37"/>
          <p:cNvSpPr/>
          <p:nvPr/>
        </p:nvSpPr>
        <p:spPr>
          <a:xfrm>
            <a:off x="2155680" y="3652920"/>
            <a:ext cx="120960" cy="3985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3" name="AutoShape 214"/>
          <p:cNvSpPr/>
          <p:nvPr/>
        </p:nvSpPr>
        <p:spPr>
          <a:xfrm flipH="1">
            <a:off x="4573800" y="5680080"/>
            <a:ext cx="377640" cy="209520"/>
          </a:xfrm>
          <a:prstGeom prst="borderCallout2">
            <a:avLst>
              <a:gd name="adj1" fmla="val 18750"/>
              <a:gd name="adj2" fmla="val -8333"/>
              <a:gd name="adj3" fmla="val 50212"/>
              <a:gd name="adj4" fmla="val 115782"/>
              <a:gd name="adj5" fmla="val 129842"/>
              <a:gd name="adj6" fmla="val 159333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슬릿 이동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4" name="직사각형 37"/>
          <p:cNvSpPr/>
          <p:nvPr/>
        </p:nvSpPr>
        <p:spPr>
          <a:xfrm>
            <a:off x="2155680" y="4727520"/>
            <a:ext cx="120960" cy="5126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5" name="직사각형 37"/>
          <p:cNvSpPr/>
          <p:nvPr/>
        </p:nvSpPr>
        <p:spPr>
          <a:xfrm>
            <a:off x="2181240" y="5850000"/>
            <a:ext cx="117360" cy="50328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6" name="직사각형 37"/>
          <p:cNvSpPr/>
          <p:nvPr/>
        </p:nvSpPr>
        <p:spPr>
          <a:xfrm>
            <a:off x="4365720" y="4754520"/>
            <a:ext cx="142920" cy="48564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47" name="직사각형 37"/>
          <p:cNvSpPr/>
          <p:nvPr/>
        </p:nvSpPr>
        <p:spPr>
          <a:xfrm>
            <a:off x="4390920" y="5850000"/>
            <a:ext cx="117720" cy="54612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cxnSp>
        <p:nvCxnSpPr>
          <p:cNvPr id="48" name="직선 화살표 연결선 2"/>
          <p:cNvCxnSpPr/>
          <p:nvPr/>
        </p:nvCxnSpPr>
        <p:spPr>
          <a:xfrm flipH="1">
            <a:off x="2299680" y="6100560"/>
            <a:ext cx="19260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49" name="직선 화살표 연결선 17"/>
          <p:cNvCxnSpPr/>
          <p:nvPr/>
        </p:nvCxnSpPr>
        <p:spPr>
          <a:xfrm>
            <a:off x="4247640" y="6122520"/>
            <a:ext cx="118440" cy="108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50" name="AutoShape 214"/>
          <p:cNvSpPr/>
          <p:nvPr/>
        </p:nvSpPr>
        <p:spPr>
          <a:xfrm flipH="1">
            <a:off x="2590200" y="5662440"/>
            <a:ext cx="377640" cy="209520"/>
          </a:xfrm>
          <a:prstGeom prst="borderCallout2">
            <a:avLst>
              <a:gd name="adj1" fmla="val 18750"/>
              <a:gd name="adj2" fmla="val -8333"/>
              <a:gd name="adj3" fmla="val 50212"/>
              <a:gd name="adj4" fmla="val 115782"/>
              <a:gd name="adj5" fmla="val 129842"/>
              <a:gd name="adj6" fmla="val 159615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슬릿 이동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0" y="306360"/>
          <a:ext cx="6842160" cy="9240840"/>
        </p:xfrm>
        <a:graphic>
          <a:graphicData uri="http://schemas.openxmlformats.org/drawingml/2006/table">
            <a:tbl>
              <a:tblPr/>
              <a:tblGrid>
                <a:gridCol w="431640"/>
                <a:gridCol w="385920"/>
                <a:gridCol w="735120"/>
                <a:gridCol w="815760"/>
                <a:gridCol w="182520"/>
                <a:gridCol w="538200"/>
                <a:gridCol w="182520"/>
                <a:gridCol w="536760"/>
                <a:gridCol w="576360"/>
                <a:gridCol w="504720"/>
                <a:gridCol w="182520"/>
                <a:gridCol w="588960"/>
                <a:gridCol w="345960"/>
                <a:gridCol w="182880"/>
                <a:gridCol w="652320"/>
              </a:tblGrid>
              <a:tr h="244440">
                <a:tc gridSpan="4" row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 rowSpan="4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담 당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파트장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8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4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차  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GL3PE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44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 번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84256-L8400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부서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5560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품  명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8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UNNEL PAD RR AWD</a:t>
                      </a:r>
                      <a:endParaRPr b="1" lang="en-US" sz="8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요구일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3.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4.03.28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의뢰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040"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사  유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 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TEL :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70400">
                <a:tc gridSpan="15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4400">
                <a:tc gridSpan="3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결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 가능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7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기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D+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금액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8889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1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2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3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금형 슬릿트추가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수정 불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①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비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성형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발포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트림 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: 0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원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②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 </a:t>
                      </a:r>
                      <a:r>
                        <a:rPr b="0" lang="ko-KR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수정내용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2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-&gt;</a:t>
                      </a:r>
                      <a:endParaRPr b="1" lang="en-US" sz="10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1680"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NO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검토공정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가능여부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6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세부 금형 변경내용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900" spc="-1" strike="noStrike">
                          <a:solidFill>
                            <a:srgbClr val="000000"/>
                          </a:solidFill>
                          <a:latin typeface="현대하모니 L"/>
                          <a:ea typeface="현대하모니 L"/>
                        </a:rPr>
                        <a:t>비 고</a:t>
                      </a:r>
                      <a:endParaRPr b="1" lang="en-US" sz="9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1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pic>
        <p:nvPicPr>
          <p:cNvPr id="52" name="그림 2" descr=""/>
          <p:cNvPicPr/>
          <p:nvPr/>
        </p:nvPicPr>
        <p:blipFill>
          <a:blip r:embed="rId1"/>
          <a:stretch/>
        </p:blipFill>
        <p:spPr>
          <a:xfrm>
            <a:off x="239760" y="2865600"/>
            <a:ext cx="6378480" cy="4103640"/>
          </a:xfrm>
          <a:prstGeom prst="rect">
            <a:avLst/>
          </a:prstGeom>
          <a:ln w="0">
            <a:noFill/>
          </a:ln>
        </p:spPr>
      </p:pic>
      <p:sp>
        <p:nvSpPr>
          <p:cNvPr id="53" name="Rectangle 229"/>
          <p:cNvSpPr/>
          <p:nvPr/>
        </p:nvSpPr>
        <p:spPr>
          <a:xfrm>
            <a:off x="44280" y="9691200"/>
            <a:ext cx="120348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UF-SS-01137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4" name="Rectangle 254"/>
          <p:cNvSpPr/>
          <p:nvPr/>
        </p:nvSpPr>
        <p:spPr>
          <a:xfrm>
            <a:off x="5013360" y="114840"/>
            <a:ext cx="1809720" cy="2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HR-ME-SS-259 Rev.3</a:t>
            </a:r>
            <a:endParaRPr b="1" lang="en-US" sz="1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5" name="Rectangle 267"/>
          <p:cNvSpPr/>
          <p:nvPr/>
        </p:nvSpPr>
        <p:spPr>
          <a:xfrm>
            <a:off x="404640" y="527400"/>
            <a:ext cx="3672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금형 적용검토 의뢰서 </a:t>
            </a:r>
            <a:r>
              <a:rPr b="1" lang="en-US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/</a:t>
            </a:r>
            <a:r>
              <a:rPr b="1" lang="ko-KR" sz="2000" spc="-1" strike="noStrike">
                <a:solidFill>
                  <a:srgbClr val="000000"/>
                </a:solidFill>
                <a:latin typeface="현대하모니 L"/>
                <a:ea typeface="현대하모니 L"/>
              </a:rPr>
              <a:t>보고서</a:t>
            </a:r>
            <a:endParaRPr b="1" lang="en-US" sz="20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6" name="Oval 268"/>
          <p:cNvSpPr/>
          <p:nvPr/>
        </p:nvSpPr>
        <p:spPr>
          <a:xfrm>
            <a:off x="2155680" y="627120"/>
            <a:ext cx="790560" cy="541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7" name="AutoShape 214"/>
          <p:cNvSpPr/>
          <p:nvPr/>
        </p:nvSpPr>
        <p:spPr>
          <a:xfrm flipH="1">
            <a:off x="5420160" y="4232160"/>
            <a:ext cx="987120" cy="209520"/>
          </a:xfrm>
          <a:prstGeom prst="borderCallout2">
            <a:avLst>
              <a:gd name="adj1" fmla="val 18750"/>
              <a:gd name="adj2" fmla="val -8333"/>
              <a:gd name="adj3" fmla="val 50212"/>
              <a:gd name="adj4" fmla="val 115782"/>
              <a:gd name="adj5" fmla="val -97425"/>
              <a:gd name="adj6" fmla="val 153625"/>
            </a:avLst>
          </a:prstGeom>
          <a:solidFill>
            <a:srgbClr val="ccffff"/>
          </a:solidFill>
          <a:ln w="9360">
            <a:solidFill>
              <a:srgbClr val="ff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wrap="none" lIns="36000" rIns="36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900" spc="-1" strike="noStrike">
                <a:solidFill>
                  <a:srgbClr val="ff0000"/>
                </a:solidFill>
                <a:latin typeface="현대하모니 L"/>
                <a:ea typeface="현대하모니 L"/>
              </a:rPr>
              <a:t>트림펀치 간섭으로 추가 불가</a:t>
            </a:r>
            <a:endParaRPr b="1" lang="en-US" sz="9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8" name="직사각형 37"/>
          <p:cNvSpPr/>
          <p:nvPr/>
        </p:nvSpPr>
        <p:spPr>
          <a:xfrm>
            <a:off x="4797360" y="3619440"/>
            <a:ext cx="144360" cy="469800"/>
          </a:xfrm>
          <a:prstGeom prst="rect">
            <a:avLst/>
          </a:prstGeom>
          <a:noFill/>
          <a:ln w="1908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10T02:47:29Z</dcterms:created>
  <dc:creator>채종서</dc:creator>
  <dc:description/>
  <dc:language>en-US</dc:language>
  <cp:lastModifiedBy>SEC</cp:lastModifiedBy>
  <dcterms:modified xsi:type="dcterms:W3CDTF">2024-03-28T05:49:24Z</dcterms:modified>
  <cp:revision>1593</cp:revision>
  <dc:subject/>
  <dc:title>슬라이드 1</dc:title>
</cp:coreProperties>
</file>